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6F5-6FDE-41C9-B7C7-349497D5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892-657B-469C-8C15-D1B9AA7F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59A-DC2D-4B62-81AA-208A32A8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A70-B5B4-4898-9C75-2836242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528-A715-4AAB-A048-F98AF5C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5451-202C-42C7-9A08-83E0538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9AD8-FD1E-4DA7-8555-F8647936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F02-2AEB-4E25-8D51-BA43756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8D8-4F27-4425-852C-0DE8211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84C-0566-4147-81AD-E9170622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03B6-5279-4CAB-ABB1-DFC396B4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395-8035-4CFE-8715-6E79439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353-3300-4223-A70E-58D385D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DC1-7D12-439B-80AF-E486FDC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1B9-6959-4B7B-90EB-9C7DF28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FC6A-0F4C-42D2-B7AF-4496CE45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13F-AAD3-412F-98D3-1A6C69C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191-C5C8-4562-91A2-C771947D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60D-D8F7-4A5D-BB38-6D698FA4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8A7-8AF1-4EB0-9D38-FA79B355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96D-D5F6-4996-B53B-257236A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1E1-37ED-419A-BDF2-4FBDC7A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90C-898C-42DC-949F-750CBE6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959-549C-4AC2-8A8D-1BEA0D2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856-0D71-4D3F-A6BD-C9F1C5A5E0C5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2701-B4D5-413D-A7BB-CB9C0E378FFD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he NEP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By Sean and Aust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is it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e NEP stands for New Economic Polic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as Lenin's last economic decision before he die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as made in the 10th congress of the ‘All Russian Communist Party’ in March 1921 as a means of recovering from a ruined econom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y did they form it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e previous policy (war communism) failed miserably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Lenin thought they did not meet meet the economic criteria necessary to be socialist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In his own words he said “We are not civilized  enough”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policies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rivate ownership is returned to farmers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mployment is brought back for farmer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rge factories are under state control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foreign trad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peasants to keep part of their surplus after paying a small tax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peasants land tenure (land tenure is the right to own land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lowed the peasants to sell their surplus for profi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nitially there was a famine due to increased food prices which was a setback for the recovery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ventually production of all goods were brought to above pre-revolution standard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conomy was brought back up after 1928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lso in 1928 the average working hours went from 9.9 hours to 7.8 hours a day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By 1928 the number of women workers increased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factories began to sell their products at higher product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 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Because of this the peasants had to produce more of their produc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peasants began to withhold their surplus to sell for better prices to NEP-men (middle-class and traders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NEP men would sell them at even higher price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Unemployment became commo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re was a imbalance between the large industry (state owned) and agriculture (this was called a scissor effect)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government fixed prices to stop the scissor effec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 gap between the classes narrowed- more equality and the richer farmers were called Kulak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ere was a split between the Bolsheviks, the Left Wing (Trotsky) who wanted the NEP gone and the Right Wing (Bukharin) who wanted the NEP the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What were the effects?(cont.)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re was a imbalance between the large industry (state owned) and agriculture (this was called a scissor effect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 government fixed prices to stop the scissor effec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 gap between the classes narrowed- more equality and the richer farmers were called Kulak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here was a split between the Bolsheviks, the Left Wing (Trotsky) who wanted the NEP gone and the Right Wing (Bukharin) who wanted the NEP there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he End of NEP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When Lenin died, Stalin filled the gap of power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Here he put an end to the NEP in January 1929 because ‘the capitalists will kill them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2743200" cy="268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4876920"/>
            <a:ext cx="4648320" cy="1600200"/>
          </a:xfrm>
          <a:prstGeom prst="wedgeEllipseCallout">
            <a:avLst>
              <a:gd name="adj1" fmla="val 88967"/>
              <a:gd name="adj2" fmla="val -13291"/>
            </a:avLst>
          </a:prstGeom>
          <a:solidFill>
            <a:srgbClr val="00408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Either we do it, or they crush us”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Joseph Stalin, 1928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</cp:lastModifiedBy>
  <dcterms:modified xsi:type="dcterms:W3CDTF">2007-11-07T03:16:27Z</dcterms:modified>
  <cp:revision>2</cp:revision>
  <dc:subject/>
  <dc:title>The NEP</dc:title>
</cp:coreProperties>
</file>